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F914-3944-4D4A-8632-D83E2D6E2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bf1f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8F8D-5F9C-409E-A986-7FE0FCBE0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bf1f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BC05-6472-4506-95AD-A193A3B1F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bf1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6CFF-3DD1-4047-B1A0-82B4E7B8D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768FF-1916-41C3-B009-745228CFF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bf1f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127E1-F459-4727-9B63-E0773E401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bf1f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DAEE7-9938-43D0-91C4-2F0C8454A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bf1f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1F285-EB56-45B9-9709-20D514807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bf1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C07FA-EE13-46DF-BBC0-633FEE669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95DBF-4CA6-46F2-8E59-CA3A6946D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bf1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8831F-5F44-47BA-9780-D98A54D03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bf1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8704-4CEB-411B-88FB-7932C17BB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bf1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13DF6-30C3-4C90-9B63-5FC7B21A5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bf1f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63311-FED6-4477-BAF9-D67CACF50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bf1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EC645-020C-44AE-AF6F-47AD3217C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bf1f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DB635-88F3-46D3-A82C-7C10C14A7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bf1f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8EF3E-7EB1-4DF6-A012-5375D588B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bf1f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A12F-1AE1-4903-A8B1-52F0E41DF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bf1f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36CC-5449-460F-AD13-D4AF1A48F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bf1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6816-16A1-4DAA-93CD-AF5CF3B90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F0E9-7392-4529-A2E4-258907F88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bf1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3D9B-312D-4107-AB1D-B428FE42A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bf1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9440-143C-4223-8A8D-80DA62ECF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bf1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61ED-2EED-4028-8A70-1B44FE30C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55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bf1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bf1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bf1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bf1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BCF3C-8879-43CE-864C-2944DD72262C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ffbf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ffbf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55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ffbf1f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ffbf1f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17BCF-03A0-4990-BE64-8DEB6B53FE93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ffb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ffbf1f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55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bf1f"/>
                </a:solidFill>
                <a:latin typeface="Garamond"/>
              </a:rPr>
              <a:t>EFFECTS OF EUROPEAN COLONIALISM ON AFRICA</a:t>
            </a:r>
            <a:endParaRPr b="0" lang="en-US" sz="5200" spc="-1" strike="noStrike">
              <a:solidFill>
                <a:srgbClr val="ffbf1f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55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bf1f"/>
                </a:solidFill>
                <a:latin typeface="Garamond"/>
              </a:rPr>
              <a:t>Imperialism</a:t>
            </a:r>
            <a:endParaRPr b="0" lang="en-US" sz="4000" spc="-1" strike="noStrike">
              <a:solidFill>
                <a:srgbClr val="ffbf1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 few Africans were granted French citizenship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c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uropeans had access to cheap labor source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c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uropeans spent money to establish “basics” of society like government and judicial systems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c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lonies provided Europe with strategic military and economic advantage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55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bf1f"/>
                </a:solidFill>
                <a:latin typeface="Garamond"/>
              </a:rPr>
              <a:t>Imperialism</a:t>
            </a:r>
            <a:endParaRPr b="0" lang="en-US" sz="4000" spc="-1" strike="noStrike">
              <a:solidFill>
                <a:srgbClr val="ffbf1f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fricans had to fight against colonial power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c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ome Africans were forced into hard labor for low wage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c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uropeans made transportation links and trade routes between Africa and Europe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c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fricans lost control over natural resource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55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bf1f"/>
                </a:solidFill>
                <a:latin typeface="Garamond"/>
              </a:rPr>
              <a:t>Imperialism</a:t>
            </a:r>
            <a:br>
              <a:rPr sz="4000"/>
            </a:br>
            <a:endParaRPr b="0" lang="en-US" sz="4000" spc="-1" strike="noStrike">
              <a:solidFill>
                <a:srgbClr val="ffbf1f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fricans educated abroad came back and helped their countries. Missionaries came to Africa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c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uropean settlers appropriated (took) good land, taking it away from African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c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 few Africans were granted French citizenship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c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uropeans divided Africa with no regard to groups and culture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55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bf1f"/>
                </a:solidFill>
                <a:latin typeface="Garamond"/>
              </a:rPr>
              <a:t>Imperialism</a:t>
            </a:r>
            <a:endParaRPr b="0" lang="en-US" sz="4400" spc="-1" strike="noStrike">
              <a:solidFill>
                <a:srgbClr val="ffbf1f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fricans learned some things about market economic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c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legitimacy of traditional African practices was undermined.  (There was nothing wrong with African culture to begin with!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55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bf1f"/>
                </a:solidFill>
                <a:latin typeface="Garamond"/>
              </a:rPr>
              <a:t>Imperialism</a:t>
            </a:r>
            <a:endParaRPr b="0" lang="en-US" sz="4000" spc="-1" strike="noStrike">
              <a:solidFill>
                <a:srgbClr val="ffbf1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lonial rule in many places, especially the Congo, was morally repugnant.  (That means it just wasn’t right.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urope received natural resources from colonies, which fed the Industrial Revolution in Europe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any Africans were converted to Christianity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uropean powers had to fight against rebellion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urope developed trade relationships with Africa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55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bf1f"/>
                </a:solidFill>
                <a:latin typeface="Garamond"/>
              </a:rPr>
              <a:t>Imperialism</a:t>
            </a:r>
            <a:endParaRPr b="0" lang="en-US" sz="4400" spc="-1" strike="noStrike">
              <a:solidFill>
                <a:srgbClr val="ffbf1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any African leaders were removed from power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c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uropean powers somewhat improved transportation and communication infrastructures, health facilities, housing and education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c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fricans were not properly prepared for independence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2T18:07:19Z</dcterms:created>
  <dc:creator>Cincinnati Public Schools</dc:creator>
  <dc:description/>
  <dc:language>en-US</dc:language>
  <cp:lastModifiedBy>Cincinnati Public Schools</cp:lastModifiedBy>
  <dcterms:modified xsi:type="dcterms:W3CDTF">2011-10-17T15:05:52Z</dcterms:modified>
  <cp:revision>6</cp:revision>
  <dc:subject/>
  <dc:title>Slide 1</dc:title>
</cp:coreProperties>
</file>